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1E1-9CBF-41FD-A732-B0CD3A6A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6BD-36E6-49BF-B0CD-0560DC1A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CCE-8287-4D2F-8306-6B0B3721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FC4-833A-49FB-A8C7-79BECA74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518-8E33-4DBE-8067-06F80F78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828-7715-4869-A711-FE5F19E6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6AB-836A-4184-8319-56114509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907-133A-41FF-B700-C93039F1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0E40-3BA6-4C83-AAC7-951DC79A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0AD-7886-4D51-A557-E5B2435D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CE9-BE77-43AC-B8BB-FF268751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F764-93D0-43D9-A2F2-B025C7EE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97C9-DFFA-4FFB-AD56-1C780CC35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stitutional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 fulfilled same roles as in Medieval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, pilgrimages, baptisms, marriag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keeping, charity, orphanage,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or was responsible for all church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of the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(post-150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stant Re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es and monarchs heads of “territorial”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ct rules, careful selection of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eaucr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archs increased state control over church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ss papal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Catholic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Control over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u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politically influential, removed from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uis XV  removes Jesuits, takes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e abolishes Jesuits 17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rgy should contribute more to soci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eph II of Austria “ Edict on Idle Institu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lished contemplative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nly teach, nurse, practic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k money from dissolved monas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47:53Z</dcterms:created>
  <dc:creator>MNS</dc:creator>
  <dc:description/>
  <dc:language>en-US</dc:language>
  <cp:lastModifiedBy>MNS</cp:lastModifiedBy>
  <dcterms:modified xsi:type="dcterms:W3CDTF">2009-12-04T14:15:05Z</dcterms:modified>
  <cp:revision>12</cp:revision>
  <dc:subject/>
  <dc:title>The Institutional Church</dc:title>
</cp:coreProperties>
</file>